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6850-26B1-4761-B214-2E500EA9F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B3D5-3700-4C0A-9308-E1144A135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DE44-A06A-47CA-B7B5-8AA86CC74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879E-ACA5-4D6D-9BBB-C9A0A32C9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8D0EB-BB2B-4142-84BC-5E4D8FC3F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BB986-E235-4D12-ADE3-0CFC4AFD7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FEF66-7E9A-4196-82D9-2609A492F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DF1EB-BBB8-44CE-9649-304940AF4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C7A77-0F69-4706-8348-4DE28135F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B0A4E-A96D-473A-8B90-BDDBDA074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FE3AE-FE17-4AFE-981F-D0FC52BDD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EB09-6983-475F-8F96-EF5D968EE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84A14-36AF-438F-BDD1-01FCC69F1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B695C-2B34-4424-A8EE-35EBDF2FB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C817E-696D-4651-A450-4049C0809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2196D-A9FC-4394-9979-D8B386452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AC15A-D26B-4107-B20F-7CB5531DC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2716-4E04-4AD2-B028-7F7EE7F02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D0B3-01D9-4CFD-BD00-BB059045E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91B4-0892-4CB3-B95A-F4397E5B4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99C3-8353-40F6-A604-B471847A5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6855-88C6-41BC-9202-3B81DE98E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F2D6-17AA-4844-914D-361D4944E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BF4A-E3A3-497D-AB8F-D43933A92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2819520" y="4800600"/>
              <a:ext cx="6237000" cy="2048040"/>
              <a:chOff x="2819520" y="4800600"/>
              <a:chExt cx="6237000" cy="2048040"/>
            </a:xfrm>
          </p:grpSpPr>
          <p:grpSp>
            <p:nvGrpSpPr>
              <p:cNvPr id="3" name=""/>
              <p:cNvGrpSpPr/>
              <p:nvPr/>
            </p:nvGrpSpPr>
            <p:grpSpPr>
              <a:xfrm>
                <a:off x="3600360" y="6245280"/>
                <a:ext cx="1013040" cy="598320"/>
                <a:chOff x="3600360" y="6245280"/>
                <a:chExt cx="1013040" cy="598320"/>
              </a:xfrm>
            </p:grpSpPr>
            <p:sp>
              <p:nvSpPr>
                <p:cNvPr id="4" name=""/>
                <p:cNvSpPr/>
                <p:nvPr/>
              </p:nvSpPr>
              <p:spPr>
                <a:xfrm>
                  <a:off x="3600360" y="6245280"/>
                  <a:ext cx="1013040" cy="598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77c7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3673440" y="6283440"/>
                  <a:ext cx="862200" cy="527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77c7"/>
                    </a:gs>
                    <a:gs pos="100000">
                      <a:srgbClr val="0088e4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3716280" y="6316560"/>
                  <a:ext cx="795240" cy="47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7bc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3759120" y="6345360"/>
                  <a:ext cx="704880" cy="4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77c7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3786120" y="6357960"/>
                  <a:ext cx="655560" cy="38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7fd5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3868560" y="6391440"/>
                  <a:ext cx="486000" cy="304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77c7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3930480" y="6438960"/>
                  <a:ext cx="360360" cy="214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7bce"/>
                    </a:gs>
                    <a:gs pos="100000">
                      <a:srgbClr val="0088e4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4035600" y="6504120"/>
                  <a:ext cx="142560" cy="95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7bce"/>
                    </a:gs>
                    <a:gs pos="100000">
                      <a:srgbClr val="0088e4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" name=""/>
              <p:cNvSpPr/>
              <p:nvPr/>
            </p:nvSpPr>
            <p:spPr>
              <a:xfrm>
                <a:off x="5851440" y="6048360"/>
                <a:ext cx="84456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5915160" y="6095880"/>
                <a:ext cx="71748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004080" y="6146640"/>
                <a:ext cx="54612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067440" y="6184800"/>
                <a:ext cx="41580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6121440" y="6226200"/>
                <a:ext cx="30492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675400" y="5897520"/>
                <a:ext cx="60804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5865840" y="6620040"/>
                <a:ext cx="70488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5599080" y="6200640"/>
                <a:ext cx="14148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5665680" y="5945040"/>
                <a:ext cx="119088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6408720" y="5907240"/>
                <a:ext cx="15228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6627960" y="6429240"/>
                <a:ext cx="285480" cy="209520"/>
              </a:xfrm>
              <a:custGeom>
                <a:avLst/>
                <a:gdLst/>
                <a:ahLst/>
                <a:rect l="l" t="t" r="r" b="b"/>
                <a:pathLst>
                  <a:path w="179" h="132">
                    <a:moveTo>
                      <a:pt x="0" y="132"/>
                    </a:moveTo>
                    <a:lnTo>
                      <a:pt x="29" y="132"/>
                    </a:lnTo>
                    <a:lnTo>
                      <a:pt x="77" y="108"/>
                    </a:lnTo>
                    <a:lnTo>
                      <a:pt x="119" y="78"/>
                    </a:lnTo>
                    <a:lnTo>
                      <a:pt x="155" y="48"/>
                    </a:lnTo>
                    <a:lnTo>
                      <a:pt x="179" y="12"/>
                    </a:lnTo>
                    <a:lnTo>
                      <a:pt x="173" y="6"/>
                    </a:lnTo>
                    <a:lnTo>
                      <a:pt x="167" y="0"/>
                    </a:lnTo>
                    <a:lnTo>
                      <a:pt x="137" y="42"/>
                    </a:lnTo>
                    <a:lnTo>
                      <a:pt x="101" y="78"/>
                    </a:lnTo>
                    <a:lnTo>
                      <a:pt x="53" y="108"/>
                    </a:lnTo>
                    <a:lnTo>
                      <a:pt x="0" y="132"/>
                    </a:lnTo>
                    <a:lnTo>
                      <a:pt x="0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3d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207120" y="6267600"/>
                <a:ext cx="13320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7216920" y="5727600"/>
                <a:ext cx="822240" cy="506520"/>
                <a:chOff x="7216920" y="5727600"/>
                <a:chExt cx="822240" cy="5065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7216920" y="5727600"/>
                  <a:ext cx="822240" cy="50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7fd5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7267680" y="5762520"/>
                  <a:ext cx="707760" cy="430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78be3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7318440" y="5794200"/>
                  <a:ext cx="612720" cy="370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7fd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7388280" y="5838840"/>
                  <a:ext cx="473040" cy="280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7fd5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>
                  <a:off x="7445520" y="5870520"/>
                  <a:ext cx="352440" cy="220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7fd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7521480" y="5918040"/>
                  <a:ext cx="200160" cy="128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3db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640" bIns="44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0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35AA9-AA43-438F-AAB3-4F4FED993E45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6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2819520" y="4800600"/>
              <a:ext cx="6237000" cy="2048040"/>
              <a:chOff x="2819520" y="4800600"/>
              <a:chExt cx="6237000" cy="2048040"/>
            </a:xfrm>
          </p:grpSpPr>
          <p:grpSp>
            <p:nvGrpSpPr>
              <p:cNvPr id="108" name=""/>
              <p:cNvGrpSpPr/>
              <p:nvPr/>
            </p:nvGrpSpPr>
            <p:grpSpPr>
              <a:xfrm>
                <a:off x="3600360" y="6245280"/>
                <a:ext cx="1013040" cy="598320"/>
                <a:chOff x="3600360" y="6245280"/>
                <a:chExt cx="1013040" cy="598320"/>
              </a:xfrm>
            </p:grpSpPr>
            <p:sp>
              <p:nvSpPr>
                <p:cNvPr id="109" name=""/>
                <p:cNvSpPr/>
                <p:nvPr/>
              </p:nvSpPr>
              <p:spPr>
                <a:xfrm>
                  <a:off x="3600360" y="6245280"/>
                  <a:ext cx="1013040" cy="598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77c7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3673440" y="6283440"/>
                  <a:ext cx="862200" cy="527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77c7"/>
                    </a:gs>
                    <a:gs pos="100000">
                      <a:srgbClr val="0088e4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3716280" y="6316560"/>
                  <a:ext cx="795240" cy="47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7bc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3759120" y="6345360"/>
                  <a:ext cx="704880" cy="4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77c7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3786120" y="6357960"/>
                  <a:ext cx="655560" cy="38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7fd5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3868560" y="6391440"/>
                  <a:ext cx="486000" cy="304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77c7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3930480" y="6438960"/>
                  <a:ext cx="360360" cy="214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7bce"/>
                    </a:gs>
                    <a:gs pos="100000">
                      <a:srgbClr val="0088e4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4035600" y="6504120"/>
                  <a:ext cx="142560" cy="95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7bce"/>
                    </a:gs>
                    <a:gs pos="100000">
                      <a:srgbClr val="0088e4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7" name=""/>
              <p:cNvSpPr/>
              <p:nvPr/>
            </p:nvSpPr>
            <p:spPr>
              <a:xfrm>
                <a:off x="5851440" y="6048360"/>
                <a:ext cx="84456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5915160" y="6095880"/>
                <a:ext cx="71748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004080" y="6146640"/>
                <a:ext cx="54612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6067440" y="6184800"/>
                <a:ext cx="41580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6121440" y="6226200"/>
                <a:ext cx="30492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675400" y="5897520"/>
                <a:ext cx="60804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5865840" y="6620040"/>
                <a:ext cx="70488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599080" y="6200640"/>
                <a:ext cx="14148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665680" y="5945040"/>
                <a:ext cx="119088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408720" y="5907240"/>
                <a:ext cx="15228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627960" y="6429240"/>
                <a:ext cx="285480" cy="209520"/>
              </a:xfrm>
              <a:custGeom>
                <a:avLst/>
                <a:gdLst/>
                <a:ahLst/>
                <a:rect l="l" t="t" r="r" b="b"/>
                <a:pathLst>
                  <a:path w="179" h="132">
                    <a:moveTo>
                      <a:pt x="0" y="132"/>
                    </a:moveTo>
                    <a:lnTo>
                      <a:pt x="29" y="132"/>
                    </a:lnTo>
                    <a:lnTo>
                      <a:pt x="77" y="108"/>
                    </a:lnTo>
                    <a:lnTo>
                      <a:pt x="119" y="78"/>
                    </a:lnTo>
                    <a:lnTo>
                      <a:pt x="155" y="48"/>
                    </a:lnTo>
                    <a:lnTo>
                      <a:pt x="179" y="12"/>
                    </a:lnTo>
                    <a:lnTo>
                      <a:pt x="173" y="6"/>
                    </a:lnTo>
                    <a:lnTo>
                      <a:pt x="167" y="0"/>
                    </a:lnTo>
                    <a:lnTo>
                      <a:pt x="137" y="42"/>
                    </a:lnTo>
                    <a:lnTo>
                      <a:pt x="101" y="78"/>
                    </a:lnTo>
                    <a:lnTo>
                      <a:pt x="53" y="108"/>
                    </a:lnTo>
                    <a:lnTo>
                      <a:pt x="0" y="132"/>
                    </a:lnTo>
                    <a:lnTo>
                      <a:pt x="0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3d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207120" y="6267600"/>
                <a:ext cx="13320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57" name=""/>
              <p:cNvGrpSpPr/>
              <p:nvPr/>
            </p:nvGrpSpPr>
            <p:grpSpPr>
              <a:xfrm>
                <a:off x="7216920" y="5727600"/>
                <a:ext cx="822240" cy="506520"/>
                <a:chOff x="7216920" y="5727600"/>
                <a:chExt cx="822240" cy="506520"/>
              </a:xfrm>
            </p:grpSpPr>
            <p:sp>
              <p:nvSpPr>
                <p:cNvPr id="158" name=""/>
                <p:cNvSpPr/>
                <p:nvPr/>
              </p:nvSpPr>
              <p:spPr>
                <a:xfrm>
                  <a:off x="7216920" y="5727600"/>
                  <a:ext cx="822240" cy="50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7fd5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7267680" y="5762520"/>
                  <a:ext cx="707760" cy="430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78be3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7318440" y="5794200"/>
                  <a:ext cx="612720" cy="370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7fd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7388280" y="5838840"/>
                  <a:ext cx="473040" cy="280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7fd5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7445520" y="5870520"/>
                  <a:ext cx="352440" cy="220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7fd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7521480" y="5918040"/>
                  <a:ext cx="200160" cy="128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3db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640" bIns="44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4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5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6AC97-0989-4A6F-9531-56F77E2B3A5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etmuesem.org/" TargetMode="External"/><Relationship Id="rId2" Type="http://schemas.openxmlformats.org/officeDocument/2006/relationships/hyperlink" Target="http://www.art.com/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cecff"/>
                </a:solidFill>
                <a:latin typeface="Arial"/>
              </a:rPr>
              <a:t>Auguste Rodin</a:t>
            </a:r>
            <a:r>
              <a:rPr b="1" lang="en-US" sz="6600" spc="-1" strike="noStrike">
                <a:solidFill>
                  <a:srgbClr val="ccecff"/>
                </a:solidFill>
                <a:latin typeface="Arial"/>
              </a:rPr>
              <a:t>	</a:t>
            </a:r>
            <a:endParaRPr b="1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hing is a waste of time if you use the experience wisely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Auguste Rod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Gabriel Moren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805880" y="485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7000"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55080" presetSubtype="149604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Fact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rn November 12, 184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ed 191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ench sculp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rolled at Ecole Imperiale de Dessin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5975280" y="685800"/>
            <a:ext cx="2820960" cy="335268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4724280" y="4114800"/>
            <a:ext cx="3213360" cy="2031840"/>
          </a:xfrm>
          <a:prstGeom prst="rect">
            <a:avLst/>
          </a:prstGeom>
          <a:ln w="0">
            <a:noFill/>
          </a:ln>
        </p:spPr>
      </p:pic>
    </p:spTree>
  </p:cSld>
  <p:transition advTm="11000"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Fact 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6526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din was known for his sculp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de the “Thinker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other one of his famous art works is the “Kiss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2620800" cy="327672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1828800" y="3670200"/>
            <a:ext cx="2502000" cy="3187800"/>
          </a:xfrm>
          <a:prstGeom prst="rect">
            <a:avLst/>
          </a:prstGeom>
          <a:ln w="0">
            <a:noFill/>
          </a:ln>
        </p:spPr>
      </p:pic>
    </p:spTree>
  </p:cSld>
  <p:transition advTm="9000">
    <p:zoom dir="in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8" presetSubtype="1497386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0" presetSubtype="1497409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0" presetSubtype="1497409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0" presetSubtype="1497409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0" presetSubtype="149743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0" presetSubtype="149745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Fact 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din was a very demanding art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d monuments of famous people such as Victor Hu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4495680" y="1600200"/>
            <a:ext cx="3886200" cy="4800600"/>
          </a:xfrm>
          <a:prstGeom prst="rect">
            <a:avLst/>
          </a:prstGeom>
          <a:ln w="0">
            <a:noFill/>
          </a:ln>
        </p:spPr>
      </p:pic>
    </p:spTree>
  </p:cSld>
  <p:transition advTm="11000">
    <p:blinds dir="horz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Sayings 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body does good to a man with impunity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the artist there is never anything ugly in nature”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1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6" dur="5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References 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www.metmuesem.or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99"/>
                </a:solidFill>
                <a:uFillTx/>
                <a:latin typeface="Arial"/>
                <a:hlinkClick r:id="rId2"/>
              </a:rPr>
              <a:t>www.art.co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0" presetSubtype="1498666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0" presetSubtype="1498666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20574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Arial"/>
              </a:rPr>
              <a:t>The End</a:t>
            </a:r>
            <a:endParaRPr b="1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7T20:04:08Z</dcterms:created>
  <dc:creator>Ryan Teeter</dc:creator>
  <dc:description/>
  <dc:language>en-US</dc:language>
  <cp:lastModifiedBy>WinuE</cp:lastModifiedBy>
  <dcterms:modified xsi:type="dcterms:W3CDTF">2010-06-08T16:35:08Z</dcterms:modified>
  <cp:revision>3</cp:revision>
  <dc:subject/>
  <dc:title>Auguste Rodin </dc:title>
</cp:coreProperties>
</file>